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81E-2D9B-44A4-AC05-FAA7E12B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7AA-EE29-42E4-A294-E9E94014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629-06F7-4E61-B9DB-74EB1A07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1CB-E1FD-4498-9346-045DC1B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6353-84F5-41B9-B1ED-B44EED3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CE0-DBFE-4E1E-88D3-A635253C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9ED-3D1D-49B3-BEC9-29886FB4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BFF-3D45-4CF0-B1F0-D14711D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5B5E-7D17-4BA2-8D47-A78037F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E30-4777-4B1C-812D-3FA76DA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82A-F34B-4658-AB42-A567BBD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F85-EEAF-48AA-AC4F-329698D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F900-0760-44CA-B0C0-939ADD2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266-E5FE-47CF-88E0-0090EAB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5117-0F69-40DF-BCBC-548C2AD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FD80-B4FB-4044-925B-424254AE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87D6-4030-495B-AEA7-82EB4BA6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E96-DB9D-46F0-AAFE-DC2B5C4E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1B2-4B12-40F6-A8F9-D1404C6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263-E8F2-41FB-92A0-4587B1DB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1FA-B17A-43C1-9F2A-D97E3A0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8D4-7634-48D9-A52E-92033D1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E96-B165-4D0A-8A53-9B38529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5A0-3E3E-4088-A4F2-D09EE76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59160" y="4485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3120" y="43012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3600" y="40046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1440" y="37458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0640" y="342900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2080" y="31748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29800" y="26316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7320" y="2368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4000" y="2084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398960" y="18212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06680" y="428688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CA51-B974-483F-9510-EEF30C9A56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05640" y="798480"/>
            <a:ext cx="7075800" cy="6853320"/>
            <a:chOff x="-305640" y="798480"/>
            <a:chExt cx="7075800" cy="6853320"/>
          </a:xfrm>
        </p:grpSpPr>
        <p:grpSp>
          <p:nvGrpSpPr>
            <p:cNvPr id="166" name="Group 3"/>
            <p:cNvGrpSpPr/>
            <p:nvPr/>
          </p:nvGrpSpPr>
          <p:grpSpPr>
            <a:xfrm>
              <a:off x="-305640" y="798480"/>
              <a:ext cx="7075800" cy="6853320"/>
              <a:chOff x="-305640" y="798480"/>
              <a:chExt cx="7075800" cy="685332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05640" y="798480"/>
                <a:ext cx="7075800" cy="6853320"/>
                <a:chOff x="-305640" y="798480"/>
                <a:chExt cx="7075800" cy="685332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05640" y="798480"/>
                  <a:ext cx="7075800" cy="6853320"/>
                  <a:chOff x="-305640" y="798480"/>
                  <a:chExt cx="7075800" cy="685332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05640" y="798480"/>
                    <a:ext cx="7075800" cy="6853320"/>
                    <a:chOff x="-305640" y="798480"/>
                    <a:chExt cx="7075800" cy="685332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05640" y="805680"/>
                      <a:ext cx="7066080" cy="6846120"/>
                      <a:chOff x="-305640" y="805680"/>
                      <a:chExt cx="7066080" cy="684612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05640" y="805680"/>
                        <a:ext cx="7066080" cy="6846120"/>
                        <a:chOff x="-305640" y="805680"/>
                        <a:chExt cx="7066080" cy="684612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05640" y="1274400"/>
                          <a:ext cx="6462720" cy="6377400"/>
                          <a:chOff x="-305640" y="127440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52680" y="4512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720" y="43282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3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680" y="32018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7080" y="2918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400" y="26586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86160" y="2395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9600" y="2111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2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9240" y="1548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5440"/>
              <a:ext cx="5254200" cy="4695840"/>
              <a:chOff x="1800" y="2125440"/>
              <a:chExt cx="5254200" cy="46958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3520" y="2125440"/>
                <a:ext cx="492480" cy="489240"/>
                <a:chOff x="4763520" y="2125440"/>
                <a:chExt cx="492480" cy="48924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9720" y="2347560"/>
                  <a:ext cx="31392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3680" y="2247480"/>
                  <a:ext cx="25452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6480" y="2236320"/>
                  <a:ext cx="1843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0920" y="2133000"/>
                  <a:ext cx="229320" cy="21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6720" y="2125440"/>
                  <a:ext cx="8928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ABB-FB14-4197-8F2C-77F20564D2A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учайные величины и функции рас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кцию подготовила доцент МГАВ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.К.Мацу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смотрим непрерывную случайную величину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котор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(x) = P(X&lt;x)=     p(u)du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я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р(х),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ходящая в это равенство, называется плотностью распределения вероятностей случайной величины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фик функции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р{х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ывается кривой распределения.Докажем, что вероятность попадания значений случайной величины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уинтервал [а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вн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енному интегралу от плотности распределения р(х)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отрезку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],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. е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1)Действительно,   на   основании  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6)   имеем   Р(а≤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—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В соответствии с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0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F(b)=   p(x)dx,  F(a)=   p(x)dx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p(x)dx =  p(x)dx+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(x)dx,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p(x)dx =    p(x)dx—   p(x)dx = F(b) — F (a),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 из двух выражений дл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—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ует равен­ство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1). Доказанная формула геометрически озна­чает следующее: вероятность попадания значений непрерывной случайной величины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олуинтервал [а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вна площади криволинейной трапеции, ограниченной кривой распределения, осью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х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отрезками прямых х= а, х =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чевидно, чт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Р(Х = а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= Р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≤Х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1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=0.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сюда для непрерывных величин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учаем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1) и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2) следуют, например, формулы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,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p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3) Если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точка непрерывности функции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р(х),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Р(х&lt;Х&lt;х+Δх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0(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   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1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2627280" y="47628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ч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97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7524720" y="184464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99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8"/>
              <p:cNvSpPr txBox="1"/>
              <p:nvPr/>
            </p:nvSpPr>
            <p:spPr>
              <a:xfrm>
                <a:off x="1547640" y="249228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1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0"/>
              <p:cNvSpPr txBox="1"/>
              <p:nvPr/>
            </p:nvSpPr>
            <p:spPr>
              <a:xfrm>
                <a:off x="3635280" y="299736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3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2"/>
              <p:cNvSpPr txBox="1"/>
              <p:nvPr/>
            </p:nvSpPr>
            <p:spPr>
              <a:xfrm>
                <a:off x="5435640" y="249228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5" name="Rectangle 1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4"/>
              <p:cNvSpPr txBox="1"/>
              <p:nvPr/>
            </p:nvSpPr>
            <p:spPr>
              <a:xfrm>
                <a:off x="3492360" y="249228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7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8"/>
              <p:cNvSpPr txBox="1"/>
              <p:nvPr/>
            </p:nvSpPr>
            <p:spPr>
              <a:xfrm>
                <a:off x="4932360" y="306864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09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0"/>
              <p:cNvSpPr txBox="1"/>
              <p:nvPr/>
            </p:nvSpPr>
            <p:spPr>
              <a:xfrm>
                <a:off x="6588000" y="249228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11" name="Rectangle 2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22"/>
              <p:cNvSpPr txBox="1"/>
              <p:nvPr/>
            </p:nvSpPr>
            <p:spPr>
              <a:xfrm>
                <a:off x="826920" y="299736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13" name="Rectangle 2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4"/>
              <p:cNvSpPr txBox="1"/>
              <p:nvPr/>
            </p:nvSpPr>
            <p:spPr>
              <a:xfrm>
                <a:off x="2411280" y="299736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15" name="Rectangle 2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26"/>
              <p:cNvSpPr txBox="1"/>
              <p:nvPr/>
            </p:nvSpPr>
            <p:spPr>
              <a:xfrm>
                <a:off x="6084720" y="4653000"/>
                <a:ext cx="3430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17" name="Rectangle 2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8"/>
              <p:cNvSpPr txBox="1"/>
              <p:nvPr/>
            </p:nvSpPr>
            <p:spPr>
              <a:xfrm>
                <a:off x="6372360" y="4581360"/>
                <a:ext cx="295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19" name="Rectangle 3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0"/>
              <p:cNvSpPr txBox="1"/>
              <p:nvPr/>
            </p:nvSpPr>
            <p:spPr>
              <a:xfrm>
                <a:off x="2340000" y="551664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21" name="Rectangle 3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2"/>
              <p:cNvSpPr txBox="1"/>
              <p:nvPr/>
            </p:nvSpPr>
            <p:spPr>
              <a:xfrm>
                <a:off x="5076720" y="537372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йствительно, учитывая (1.11), (1.12) и применяя теорему о среднем для определенного интеграла, 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 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&lt; х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+ Δх) =  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Δх, ε= х +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ΘΔх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0≤Θ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Δх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р(х)Δх+о(Δ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лотность распределения вероятностей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ладает следующими свойств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Плотность распределения р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не отрицательная функция  р(х)≥0; это следует из определения функ­ции р (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 В точках дифференцируемости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оизводная функции распределения равна плотности распределения вероятностей, т. 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'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.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1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венство (1.15) следует из формулы (1.10) и тео­ремы о производной определенного интеграла с перемен­ным верхним пределом (см. § 16.6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 Интервал по бесконечному промежутку [-∞,+∞] от плотности распределения вероятностей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равен единице, т.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              (1.16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"/>
              <p:cNvSpPr txBox="1"/>
              <p:nvPr/>
            </p:nvSpPr>
            <p:spPr>
              <a:xfrm>
                <a:off x="2627280" y="765000"/>
                <a:ext cx="266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ч</m:t>
                        </m:r>
                      </m:sub>
                      <m:sup>
                        <m:r>
                          <m:t xml:space="preserve">ч</m:t>
                        </m:r>
                        <m:r>
                          <m:t xml:space="preserve">+</m:t>
                        </m:r>
                        <m:r>
                          <m:t xml:space="preserve">Δч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26" name="Picture 8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5933880" cy="15141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9"/>
              <p:cNvSpPr txBox="1"/>
              <p:nvPr/>
            </p:nvSpPr>
            <p:spPr>
              <a:xfrm>
                <a:off x="1403280" y="566100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самом деле, исходя из определения несобственного интеграла и свойства 2 функции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 (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) dx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u)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u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(x)=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   свойство    имеет    следующую    геометрическую интерпретацию: площадь фигуры, ограниченной кривой распределения  и  осью  Ох,  равна  единице   . Отметим, что если все возможные значения случай­ной величины принадлежат отрезку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[а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ак как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0 вне этого отрез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1332000" y="191628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2627280" y="2060640"/>
                <a:ext cx="304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35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8"/>
              <p:cNvSpPr txBox="1"/>
              <p:nvPr/>
            </p:nvSpPr>
            <p:spPr>
              <a:xfrm>
                <a:off x="2916360" y="198900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ч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37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4067280" y="2060640"/>
                <a:ext cx="304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3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2050920" y="3284640"/>
                <a:ext cx="200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ое распределение двух случайных вели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усть на вероятностном пространств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Ώ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Р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даны две случайные величины: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=Х(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Ώ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ждому элементарному событию со ставится в соответствие упорядоченная пара значений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х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ых величин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У. Упорядоченную пару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случайных величин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 называют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двумерной случайной величиной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случайным вектором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примере § 29.2 двумерной случайной величиной будет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, где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—координаты точки, в которой оказалась точка, брошенная в данный квадрат. Примером двумерной случайной величины является упорядоченная пар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где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координаты точки попадания снаряда при стрельбе из орудия по некоторой плоской област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ункцией распределения двумерной случайной величины или случайного вектор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называется функц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вух действительных переменных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, у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пределяемая формул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,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&lt;.х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&lt;у)—вероятность того, что случайная величина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мет значение, меньше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случайная величина У — значение, меньше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у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еометрический смысл равенства (1.18): функц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ть вероятность того, что случайная точк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попадает в бесконечный квадрант с вершиной п точк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х, у)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; точк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будет левее и ниже этой вершины .Из определен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свойств вероятности следует, что значения этой функции принадлежат отрезку [0, 1], т. е.                              0≤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Функция распределен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ладает следующими свойствами.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является неубывающей функцией по каждой переменной: есл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эти неравенства следуют из определения и свойств функций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лучающихся из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 фиксировании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у и х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ответственно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0)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0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  Справедливы соотнош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-∞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у) 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—∞) =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+∞,+∞) =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и соотношения следуют из определения  (1.18)  и геометрического смысла функции распредел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ый вектор 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 называют вектором дискретного типа, если существует конечное или счетное множество точек (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,2…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з предельных точек)  таких ч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)=р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j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  (1.1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ый вектор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называют вектором абсолютного непрерывного типа, если существует функц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≥0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то при любых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, 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υ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 dυ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 (1.2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424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826920" y="3429000"/>
                <a:ext cx="304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47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755640" y="364500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49" name="Rectangle 1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755640" y="3860640"/>
                <a:ext cx="30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51" name="Rectangle 1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1"/>
              <p:cNvSpPr txBox="1"/>
              <p:nvPr/>
            </p:nvSpPr>
            <p:spPr>
              <a:xfrm>
                <a:off x="3203640" y="5157720"/>
                <a:ext cx="419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3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3"/>
              <p:cNvSpPr txBox="1"/>
              <p:nvPr/>
            </p:nvSpPr>
            <p:spPr>
              <a:xfrm>
                <a:off x="1476360" y="5877000"/>
                <a:ext cx="343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ч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н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ункция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, у)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ходящая в равенство (1.20), называется плотностью распределения вероятностей случайного вектор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ли двумерной случайной величин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ля одномерной случайной величины в § 29.2 была получена формула (1.6), выражающая вероятность попадания значения случайной величины в полуинтервал через функцию распределения. Найдем аналогичную формулу в двумерном случае, т. е. формулу для вероятности попадания значений пары случайных величин в прямоугольник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.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рис. 1.7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­скольк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X&lt;b, Y&lt;d) =S+ (X&lt;a, Y&lt;d) + (X&lt;b, Y&lt;c)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то по формуле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(X&lt;a, Y&lt;d) + (X&lt;b, Y&lt;c)) =P(X&lt;a, Y&lt;d)+                +P(X&lt;b, Y&lt;c)-P(X&lt;a, Y&lt;c) =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ак как в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1) 5 несовместно с другими слагаемыми, то из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1) и последнего равенства получаем фор­мул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S) =P(a≤X&lt;b, c≤Y&lt;d) =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 F(b, d)+F(a, c)-F(a, d)—F(b, c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—абсолютно непрерывный вектор, то из формулы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2) следует, ч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а≤Х.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с ≤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xd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3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мула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3) является частным случаем более общей формул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 ((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G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, у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xd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торая приводится здесь без доказательст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843280" y="4437000"/>
                <a:ext cx="295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1332000" y="5086440"/>
                <a:ext cx="195120" cy="1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8"/>
              <p:cNvSpPr txBox="1"/>
              <p:nvPr/>
            </p:nvSpPr>
            <p:spPr>
              <a:xfrm>
                <a:off x="1979640" y="5084640"/>
                <a:ext cx="266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G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мула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4) означает следующее: вероятность того, что двумерная случайная величина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 с плот­ностью распределения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нимает значения из област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равна двойному интегралу от функции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, 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 этой област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 двумерной функции распределения можно най­ти одномерные функции распределения. Поскольку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 + ∞) 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Ώ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достоверное событие), то (Х&lt;х) = (Х&lt;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+∞)Следовательно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Р(Х&lt;х) =Р(Х&lt;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 + ∞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+∞ 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так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+∞)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+∞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абсолютно непрерывный вектор, 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 v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v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где функ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v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6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ть плотность распределения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налогично 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2(y)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усть вектор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является вектором дискретного тип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Х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 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,2,….   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йдем   соответствующие   одномерные   распределения. Име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ложи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q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2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гд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X= xi)= pi, P(Y= yj)= qj (1.2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дискретный вектор принимает конечное множе­ство значений, 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X=Xi) =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j= pi, P(Y= y)=   pij=qj (1.30)         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1=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5219640" y="1700280"/>
                <a:ext cx="304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65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6"/>
              <p:cNvSpPr txBox="1"/>
              <p:nvPr/>
            </p:nvSpPr>
            <p:spPr>
              <a:xfrm>
                <a:off x="1763640" y="1989000"/>
                <a:ext cx="3049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8"/>
              <p:cNvSpPr txBox="1"/>
              <p:nvPr/>
            </p:nvSpPr>
            <p:spPr>
              <a:xfrm>
                <a:off x="1258920" y="2205000"/>
                <a:ext cx="304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69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0"/>
              <p:cNvSpPr txBox="1"/>
              <p:nvPr/>
            </p:nvSpPr>
            <p:spPr>
              <a:xfrm>
                <a:off x="1258920" y="263700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71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12"/>
              <p:cNvSpPr txBox="1"/>
              <p:nvPr/>
            </p:nvSpPr>
            <p:spPr>
              <a:xfrm>
                <a:off x="1547640" y="263700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73" name="Rectangle 1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4"/>
              <p:cNvSpPr txBox="1"/>
              <p:nvPr/>
            </p:nvSpPr>
            <p:spPr>
              <a:xfrm>
                <a:off x="3203640" y="2637000"/>
                <a:ext cx="301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6"/>
              <p:cNvSpPr txBox="1"/>
              <p:nvPr/>
            </p:nvSpPr>
            <p:spPr>
              <a:xfrm>
                <a:off x="1547640" y="314172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8"/>
              <p:cNvSpPr txBox="1"/>
              <p:nvPr/>
            </p:nvSpPr>
            <p:spPr>
              <a:xfrm>
                <a:off x="1403280" y="364500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79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0"/>
              <p:cNvSpPr txBox="1"/>
              <p:nvPr/>
            </p:nvSpPr>
            <p:spPr>
              <a:xfrm>
                <a:off x="3564000" y="4149720"/>
                <a:ext cx="3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шб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81" name="Rectangle 2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2"/>
              <p:cNvSpPr txBox="1"/>
              <p:nvPr/>
            </p:nvSpPr>
            <p:spPr>
              <a:xfrm>
                <a:off x="1692360" y="4581360"/>
                <a:ext cx="295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83" name="Rectangle 2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4"/>
              <p:cNvSpPr txBox="1"/>
              <p:nvPr/>
            </p:nvSpPr>
            <p:spPr>
              <a:xfrm>
                <a:off x="3419640" y="4653000"/>
                <a:ext cx="29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85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6"/>
              <p:cNvSpPr txBox="1"/>
              <p:nvPr/>
            </p:nvSpPr>
            <p:spPr>
              <a:xfrm>
                <a:off x="971640" y="5084640"/>
                <a:ext cx="295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Rectangle 2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8"/>
              <p:cNvSpPr txBox="1"/>
              <p:nvPr/>
            </p:nvSpPr>
            <p:spPr>
              <a:xfrm>
                <a:off x="1908000" y="5084640"/>
                <a:ext cx="295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89" name="Rectangle 3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0"/>
              <p:cNvSpPr txBox="1"/>
              <p:nvPr/>
            </p:nvSpPr>
            <p:spPr>
              <a:xfrm>
                <a:off x="1619280" y="6021360"/>
                <a:ext cx="295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91" name="Rectangle 3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32"/>
              <p:cNvSpPr txBox="1"/>
              <p:nvPr/>
            </p:nvSpPr>
            <p:spPr>
              <a:xfrm>
                <a:off x="3708360" y="6021360"/>
                <a:ext cx="295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</m:sub>
                      <m:sup>
                        <m:r>
                          <m:t xml:space="preserve">∞</m:t>
                        </m:r>
                        <m:r>
                          <m:t xml:space="preserve">1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  этом   случае  значения   можно   представить   в   виде табл. 2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аблица  29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 формул (29.30) видно, что для вычисления вероятност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таблице надо просуммировать вероятности в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-я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троке, а для вычисления вероятност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q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просуммировать вероятности в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 столб­це. Поскольк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(X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X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Y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y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pij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=    =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933880" cy="318132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539640" y="5445000"/>
                <a:ext cx="48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ο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7"/>
              <p:cNvSpPr txBox="1"/>
              <p:nvPr/>
            </p:nvSpPr>
            <p:spPr>
              <a:xfrm>
                <a:off x="2843280" y="5445000"/>
                <a:ext cx="485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ο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9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39640" y="5805360"/>
                <a:ext cx="381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κ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1"/>
              <p:cNvSpPr txBox="1"/>
              <p:nvPr/>
            </p:nvSpPr>
            <p:spPr>
              <a:xfrm>
                <a:off x="971640" y="5805360"/>
                <a:ext cx="390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ые распределения нескольких случаев велич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ссмотрим вероятностное пространство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Р)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котором заданы случайные величин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(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2=Х2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,,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= 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ω)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ωєΩ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ждому событию ωєΩ этивеличины ставят в соответстви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мерный вектор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,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Х2, ... 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ногомерной    функцией   распределения   случайного вектора называетс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,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Х2, ... 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числовая функц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йствительных переменных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пределяемая равенств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Х2&lt;х2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3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Х2&lt;х2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вероятность того, что случайная величина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мет значение, меньше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значение, меньше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2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,,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п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значение, меньше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 определения и свойств вероятности следует, что 0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≤1, т. е. значения функции распределения принадлежат отрезку [0, 1]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жно показать, что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нотонна по каждому аргументу и выполняются следующие соотнош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(x1, x2, ...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) = 1,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(x1, x2, ...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) =0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(x1, x2, , .. ., xk, x 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)= F (x1, x2, … xk, x , xn), (1.3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одно из чисел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2,..., п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отношения  (29.32)  означают, что предел функ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 равен   единице, когда   все  аргумент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тремятся к +∞; равен нулю, если один из аргументов стремится к — ∞; равен функции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 1переменных, если один из аргументов стремится к +∞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4"/>
              <p:cNvSpPr txBox="1"/>
              <p:nvPr/>
            </p:nvSpPr>
            <p:spPr>
              <a:xfrm>
                <a:off x="611280" y="4508640"/>
                <a:ext cx="333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07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6"/>
              <p:cNvSpPr txBox="1"/>
              <p:nvPr/>
            </p:nvSpPr>
            <p:spPr>
              <a:xfrm>
                <a:off x="611280" y="4797360"/>
                <a:ext cx="333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09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9"/>
              <p:cNvSpPr txBox="1"/>
              <p:nvPr/>
            </p:nvSpPr>
            <p:spPr>
              <a:xfrm>
                <a:off x="2916360" y="4581360"/>
                <a:ext cx="3427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учайный вектор (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2, ...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зывают векто­ром дискретного типа, если существует конечное или счетное множество точек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…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2,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.. (без предельных точек), таких, чт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 (Х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 Х2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  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 Хк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3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лучайный вектор (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Х2, ... 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зывают векто­ром абсолютно непрерывного типа, если существует функ­ция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≥0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ая,    что    при    любых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(x1, x2, ...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) =   …   p(u, u…u)d ud u…d u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1.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ункция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...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 входящая в равенство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34)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лотностью распределен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роятностей слу­чайного вектора (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2, ...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5148360" y="1844640"/>
                <a:ext cx="485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л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л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лт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4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6"/>
              <p:cNvSpPr txBox="1"/>
              <p:nvPr/>
            </p:nvSpPr>
            <p:spPr>
              <a:xfrm>
                <a:off x="3059280" y="3068640"/>
                <a:ext cx="342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ч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6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3564000" y="3141720"/>
                <a:ext cx="2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лучайные велич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Функция распределения и её свойст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Плотность распредел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овместное распределение двух случайных величи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Совместные распределения нескольких случайных величин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Независимость случайных величи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Функции случайных величи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висимость случайных велич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ые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У называются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независимыми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для любых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, у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полняется равенст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Х&lt;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3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еорема 1.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ые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У независимы тогда и только тогда, когда функция распределения двухмерной случайной величины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вна произведению функций распределений составляющих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36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оказательство.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Необходимость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усть слу­чайные величины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зависимы, тогда выполнено равенство (1.35). По определению функций распределения Р(Х&lt;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у)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—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дставляя эти выражения в равенство (1.35), получаем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у) 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. е. равенство (1.36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Достаточность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усть выполнено равенство (1.36), тогда из определений функций распределения следует ра­венство (1.35), которое означает, что случайные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У независим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жно показать, что необходимое и достаточное условие независимости случайных величин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ражается равенств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х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3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р(х, у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плотность распределения вероятностей двухмерной случайной величины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);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—плотности распределения вероятностей составляющих случай­ных величин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усть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Р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произвольное вероятностное пространство. Случайные величины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2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зыва­ются независимыми в совокупности, или независимыми, если для любой системы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..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их величин выполняется равенст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….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)…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….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…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произвольные действительные числа;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k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любое из чисел от 1 до п. В частности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2&lt;х2, ..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..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2.....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произвольные действительные чис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обходимое и достаточное условие независимости случайных величин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Х2, . . .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ражается равенств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2.....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..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3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2.....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— функция распределения этих величин;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функция распределения случайной величины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,2.....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ункции случайных вел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жет оказаться, что одна случайная величина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вязана с другой случайной величиной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ункциональной зависимостью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пример, если случайная величина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ть радиус обтачиваемого на станке шарика, 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го объем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4/3πХ3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также случайная величина, являющаяся заданной функцией случайной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кажем, как найти закон распределения случайной величины У по известному закону распределения случайной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/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— заданная функц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ссмотрим сначала случай дискретной случайной величины. Пусть аргумент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меет следующий закон распредел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2, ...),    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гда функц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мет соответствующие значен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, 2, . ..) с теми же вероятностям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йствительно, если случайная величина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нимает значение Х =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 вероятностью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 случайная величина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ринимает значени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 той же вероятностью; этим значением будет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так как функц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вестн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ссмотрим непрерывную случайную величину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 плотностью распределения р(х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случайную величину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вязанную с первой функциональной зависимостью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дположим, что функция р(х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прерывна, функц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меет непрерывную производную у'&gt;0 в интервале ]а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можных значений случайной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областью ее значений является интервал ]с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[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йдем плотность распределения φ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у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ой величины У и докажем, что функция ср(г/) непрерывна в интер­вале ]с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[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2916360" y="3357720"/>
                <a:ext cx="380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прерывная и возрастающая функция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за­имно-однозначно отображает интервал [а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интервал [с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];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юбому х[а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] соответствует единственное значе­ние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[с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обратно. Следовательно, вероятности по­паданий случайных величин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У в соответствующие интервалы равны между собой, т. е. Р(х&lt;Х&lt;.х+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х) =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ражая эти вероятности с помощью формулы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13) и применяя теорему о среднем, получае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(х&lt;Х&lt;х + Δх) =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φ(η)Δ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  у&lt;η&lt;у+Δ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 трех последних равенств следует, что р(ε)Δх =φ(η)Δ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куд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φ(η) = р(ε) Δх/ Δу.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39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 условию функция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меет непрерывную про­изводную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’&gt;0 и возрастает, поэтому для нее существует обратная функция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непрерывной производной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’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'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&gt;0-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ереходя к пределу в равенстве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39) при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Δ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→0;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Δу→0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→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η→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’или 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x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венство у(у)=р(х)х'у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жно записать в вид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)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40)Формула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40) устанавливает связь между плотностями вероятностей р(х)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Очевидно,функция 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непрерывна в интервале ]с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[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мечание. Если функция у=(х)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бывает и имеет непре­рывную производную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’&lt;0, то аналогично можно показать, что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-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41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кольку в данном случае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'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&lt;0,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у формулу можно запи­сать так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φ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)│’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│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2)Формула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42) справедлива в обоих случаях: для возрастаю­щей и для убывающей функции у=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х).В заключение введем понятие функции двух случай­ных величин. Пусть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 множество возможных пар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(х, у)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начений двумерной случайной величины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{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} — множество значений случайной величины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сли каждой паре значений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(х,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   D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случайной точке плоскости) по некоторому правилу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}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авится в соответствие одно опре­деленное значение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   Z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оворят, что на множестве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дана функция / двух случайных величин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ишу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).   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43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пример, при стрельбе из орудия по некоторой плоской области расстояние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Z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очки попадания снаряда до нача­ла координат есть функция двух случайных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величин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 —координат указанной точки, прич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2268360" y="1341360"/>
                <a:ext cx="266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ч</m:t>
                        </m:r>
                      </m:sub>
                      <m:sup>
                        <m:r>
                          <m:t xml:space="preserve">ч</m:t>
                        </m:r>
                        <m:r>
                          <m:t xml:space="preserve">+</m:t>
                        </m:r>
                        <m:r>
                          <m:t xml:space="preserve">Δч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528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6"/>
              <p:cNvSpPr txBox="1"/>
              <p:nvPr/>
            </p:nvSpPr>
            <p:spPr>
              <a:xfrm>
                <a:off x="2195640" y="1773360"/>
                <a:ext cx="2761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Rectangle 9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8"/>
              <p:cNvSpPr txBox="1"/>
              <p:nvPr/>
            </p:nvSpPr>
            <p:spPr>
              <a:xfrm>
                <a:off x="5148360" y="616572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Rectangle 11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0"/>
              <p:cNvSpPr txBox="1"/>
              <p:nvPr/>
            </p:nvSpPr>
            <p:spPr>
              <a:xfrm>
                <a:off x="1403280" y="602136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6012000" y="6308640"/>
                <a:ext cx="6858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аплас Пьер Сим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ЛАПЛАС (Laplace) Пьер Симон (1749—1827) — французский ученый, астроном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изик, математик, основоположник теории вероятности. Сын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ормандскогокрестьянина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 1785 — член Парижской академи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ук, с 1790 — председатель Палаты мер и весов. Л. разработал (1796)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ипотезу о происхождении Солнечной системы из "первичной" туманности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ходившейся в медленном равномерном вращении и распространявшей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а пределы возникшей из нее позднее Солнечной системы. Обосновани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смогонической гипотезы в трудах Л. сопровождалось перестройкой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снований науки: статичная ньютонианская картина мира заменялас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эволюционной механической картиной мира ("Изложение системы мира"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т. 1—2, 1795—1796). Вводились новые вероятностно-статистические методы исследования эволюционных процессов и массовых событий ("Аналитическая теория вероятностей", 1812). Формировался новый категориальный аппарат для описания смены состояний больших систем ("вероятность", "смена состояний", "детерминация" и т.д.) ("Опыт философии теории вероятностей", 1814). Перестраивая основания науки, Л. опирался на философские идеи Лейбница и французских материалистов 18 в., в частности, на концепцию Гольбаха о всеобщей причинной связи тел во Вселенной. В истории науки концепция причинного объяснения эволюции и изменения больших систем по жестким однолинейно направленным динамическим законам получила наименование лапласовского детерминизма. Историческое значение лапласовского детерминизма состояло в том, что он стал логическим средством научного объяснения эволюционных процессов и массовых событий в механической картине мира, заменив аналитическую поэлементную форму причинного объяснения синтетическим видением переплетающихся причинных рядов в универсуме. Лапласовский детерминизм стал нарицательным обозначением механистической методологии классической физик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8" name="Picture 4" descr="Pierre-Simon_Laplace"/>
          <p:cNvPicPr/>
          <p:nvPr/>
        </p:nvPicPr>
        <p:blipFill>
          <a:blip r:embed="rId1"/>
          <a:stretch/>
        </p:blipFill>
        <p:spPr>
          <a:xfrm>
            <a:off x="7164360" y="1557360"/>
            <a:ext cx="1419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ражаю благодарность за техническую подготовку лекции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оему коллеге доценту ЧГ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рокину Г.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 за 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1" descr="244067 Нью-Йорк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2" descr="Town8 Коллизей Рим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1" descr="244067 Нью-Йорк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Рисунок 1" descr="Town12 Рио-да- Женей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чайны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ч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усть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Ώ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Р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произвольное вероятностное про­странство. Случайной величиной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назовем действитель­ную функцию Х = Х(ω), ωєΏ , такую, что при любом действительном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{ω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ω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}є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                      (1.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ытие, определяемое (1.1), более кратко можно за писать в виде Х&lt;х(случайная величина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нимает значение, меньшее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 как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вляется σ- алгеброй, то из (1.1) следу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є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= (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-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))  є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          (1.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= (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1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Є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отношения (1.2) означают, что событие, противоположное данному, разность двух данных событии и произведение счетного множества их принадлежат алгебре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. (Счетным множеством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ывается множест­во, элементы которого можно поставить во взаимно-одно­значное соответствие с элементами множества натураль­ных чисел; другими словами, счетное множество — бесконечное множество, элементы которого можно про­нумеровать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овательно, вероятности этих событий определе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мер. Пусть в единичный квадрат Ώ={(u,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0≤u≤1, 0≤ν1 } наудачу бросается точка. Элементарными событиями ω являются точки, событиями — квадрируемые подмножества квадра­та Ώ; σ-алгебра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систему квадрируемых подмножеств этого квадрата. Вероятность события равна площади соответствующего квадрируемого подмножества. Случайными величинами будут, например, функ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ω) =расстояние брошенной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(и,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начала координат, функ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ω)=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первая координата брошен­ной точки и др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-52128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овательно, вероятности этих событий определе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мер. Пусть в единичный квадрат Ώ={(u,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0≤u≤1, 0≤ν1 } наудачу бросается точка. Элементарными событиями ω являются точки, событиями — квадрируемые подмножества квадра­та Ώ; σ-алгебра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систему квадрируемых подмножеств этого квадрата. Вероятность события равна площади соответствующего квадрируемого подмножества. Случайными величинами будут, например, функ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ω) =расстояние брошенной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(и,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начала координат, функ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ω)=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первая координата брошен­ной точки и др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распределения и ее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Функцией распределения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ой величины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зы­вается функция действительной переменной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пределяе­мая равенство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,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3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(Х&lt;.х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вероятность того, что случайная величи­на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мет значение, меньшее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еометрически это означает следующее: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вероятность того, что слу­чайная  величина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мет  значение,  которое  изображается точкой на числовой прямой, расположенной слева от точки х .Значения функции распределения принадлежат отрез­ку [0, 1], т. е. 0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1 Последние неравенства сле­дуют из определен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свойства вероятности (ве­роятность события заключена между нулем и единицей). Если все возможные значения случайной величины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надлежат интервалу ]а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[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 для ее функции распре­делен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=0 при х≤а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 = 1 при х≥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 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1.4)Действительно, если х≤а, то событие Х&lt;х является не­возможным (таких значений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ринимает), его ве­роятность равна нулю; если х≥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 событие Х&lt;х будет достоверным, его вероятность равна единице.Так как Х&lt; —∞ — невозможное, а Х&lt; + ∞ — досто­верное события, т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-∞)=0,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+∞)=1.                 (1.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7740720" y="-941400"/>
            <a:ext cx="2519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кольку (Х&lt;х2) =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+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и собы­тия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и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≤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несовместны, то по аксиоме сложения вероятностей несовместных собы­тий име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X&lt;x2)=P(x1≤X&lt;x2)+P(X&lt;x1)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(x≤X&lt;x2)=P(X&lt;x2)-P(X&lt;x)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 учетом определения (1.3) последнее равенство запишем так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 (1.6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едовательно, вероятность того, что случайная величина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римет значение из полуинтервала[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]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вна разности значений ее функции распределения в концах этого промежутка. Поскольку Х&lt;х и Х≥х — противоположные собы­тия, то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≥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откуда Р(Х≥х) = 1-Р(Х&lt;х),или Р(Х≥х) = 1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 формул(1.2), (1.4) 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х) =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х +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—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х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0) -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.(1.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ункция распределения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ладает следующими свойств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неубывающая функция; если x&lt;х2, то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йствительно, так как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р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, то в соответствии с Р(Х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Р(Х&lt;х2), ил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≤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-∞)=0,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+∞) = 1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довательность   событий    (Х&lt; —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),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, 2,   ..., монотонно    убывает,    т.    е.     (Х&lt; —1)   (Х&lt;—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..=&gt;(Х&lt; 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  (Х&lt;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 1)...и     (Х&lt;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Ø.   По формуле 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—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=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(х&lt;—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Р(Ø) =0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сюда с учетом монотонности функци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   следует, что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) =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—∞) =0. Второе равенство доказывается аналогично (с использованием монотонной после­довательности (Х&lt;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1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, ...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755640" y="4292640"/>
                <a:ext cx="304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45" name="Rectangle 1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2700360" y="4292640"/>
                <a:ext cx="304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47" name="Rectangle 14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3"/>
              <p:cNvSpPr txBox="1"/>
              <p:nvPr/>
            </p:nvSpPr>
            <p:spPr>
              <a:xfrm>
                <a:off x="3995640" y="4797360"/>
                <a:ext cx="16200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16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5"/>
              <p:cNvSpPr txBox="1"/>
              <p:nvPr/>
            </p:nvSpPr>
            <p:spPr>
              <a:xfrm>
                <a:off x="5003640" y="4797360"/>
                <a:ext cx="16200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Rectangle 18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7"/>
              <p:cNvSpPr txBox="1"/>
              <p:nvPr/>
            </p:nvSpPr>
            <p:spPr>
              <a:xfrm>
                <a:off x="1979640" y="5084640"/>
                <a:ext cx="16200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9"/>
              <p:cNvSpPr txBox="1"/>
              <p:nvPr/>
            </p:nvSpPr>
            <p:spPr>
              <a:xfrm>
                <a:off x="3924360" y="494172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intersect</m:t>
                            </m:r>
                          </m:e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55" name="Rectangle 2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21"/>
              <p:cNvSpPr txBox="1"/>
              <p:nvPr/>
            </p:nvSpPr>
            <p:spPr>
              <a:xfrm>
                <a:off x="971640" y="5229360"/>
                <a:ext cx="2570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57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23"/>
              <p:cNvSpPr txBox="1"/>
              <p:nvPr/>
            </p:nvSpPr>
            <p:spPr>
              <a:xfrm>
                <a:off x="2195640" y="5229360"/>
                <a:ext cx="2570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59" name="Rectangle 2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6877080" y="5445000"/>
                <a:ext cx="2570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.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х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х0); в точке х0 функц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х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прерывна  слева.  Пусть числовая последовательность   (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возрастает и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Хо, тогда  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+1)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&lt;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&lt; х)   и  по формуле  (28.22)  получае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 (Х&lt;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х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 = Р (х&lt;х0).   С учетом монотонности функции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х) отсюда следует третье свойство, т. е.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х0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основании свойств функции распределения Р(х) можно судить об особенностях ее графика  (рис. 29.3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мечание. Любая функция Ф(х),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ладающая указанными свойствами, является функцией распределения некоторой случайной величины, т. е. можно построить вероятностное пространство (Ώ,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, Р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определить на нем случайную величину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акую, что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Ф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,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учайная величина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зывается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дискретной,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она может принимать только конечное или счетное мно­жество значений. Для полной вероятностной характери­стики дискретной случайной величины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принимающей значения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х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3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остаточно знать вероятност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их значений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k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k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= 1, 2, 3, ...), гд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pk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Законом распределения дискретной случайной величины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зывается соответствие между значени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611280" y="189000"/>
                <a:ext cx="3715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ч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65" name="Rectangle 11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0"/>
              <p:cNvSpPr txBox="1"/>
              <p:nvPr/>
            </p:nvSpPr>
            <p:spPr>
              <a:xfrm>
                <a:off x="6156360" y="404640"/>
                <a:ext cx="3427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67" name="Rectangle 13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2"/>
              <p:cNvSpPr txBox="1"/>
              <p:nvPr/>
            </p:nvSpPr>
            <p:spPr>
              <a:xfrm>
                <a:off x="1547640" y="620640"/>
                <a:ext cx="2890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4"/>
              <p:cNvSpPr txBox="1"/>
              <p:nvPr/>
            </p:nvSpPr>
            <p:spPr>
              <a:xfrm>
                <a:off x="539640" y="692280"/>
                <a:ext cx="276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71" name="Rectangle 2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2"/>
              <p:cNvSpPr txBox="1"/>
              <p:nvPr/>
            </p:nvSpPr>
            <p:spPr>
              <a:xfrm>
                <a:off x="468360" y="1052640"/>
                <a:ext cx="342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73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4"/>
              <p:cNvSpPr txBox="1"/>
              <p:nvPr/>
            </p:nvSpPr>
            <p:spPr>
              <a:xfrm>
                <a:off x="3995640" y="1268280"/>
                <a:ext cx="3715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ч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75" name="Rectangle 2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6"/>
              <p:cNvSpPr txBox="1"/>
              <p:nvPr/>
            </p:nvSpPr>
            <p:spPr>
              <a:xfrm>
                <a:off x="5796000" y="3500280"/>
                <a:ext cx="295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77" name="Picture 28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5934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3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той величины и их вероятностями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3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он распределения дискретной случайной величи­ны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принимающей значения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3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вероятностями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, причем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1 можно задать таблиц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ли формулами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k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1.2,3, ...),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   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алогично задается закон распределения дискретной случайной величины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принимающей конечное множест­во значений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,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.,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ответственно с вероятностями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...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де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203640" y="1484280"/>
                <a:ext cx="295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81" name="Picture 7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16720" cy="15130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6516720" y="3357720"/>
                <a:ext cx="295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4788000" y="4437000"/>
                <a:ext cx="295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86" name="Picture 12" descr=""/>
          <p:cNvPicPr/>
          <p:nvPr/>
        </p:nvPicPr>
        <p:blipFill>
          <a:blip r:embed="rId2"/>
          <a:stretch/>
        </p:blipFill>
        <p:spPr>
          <a:xfrm>
            <a:off x="1187280" y="4941720"/>
            <a:ext cx="5934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P(X = xk)= p (k = 1.2,3, ...),      p=l.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ункция распределения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искретной случайной величины имеет вид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) = 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 P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xk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),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9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де символ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x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&l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значает, что суммируются вероятности тех значений, которые меньше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х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ункция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ля дискретной случайной величины разрывна.Случайная величина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епрерывной,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ли существует неотрицательная функция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р(х)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ая, что при любом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F(x) = P(X&lt;x)=     p(u)du.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10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известно, определенный интеграл с переменным верхним пределом является непрерывной функцией (см. § 16.6). Из формулы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10) видно, что функция распре­деления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(х)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прерыв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5651640" y="1557360"/>
                <a:ext cx="295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90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3203640" y="2060640"/>
                <a:ext cx="314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ч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x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92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3419640" y="3500280"/>
                <a:ext cx="228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ч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26:18Z</dcterms:created>
  <dc:creator>Семья</dc:creator>
  <dc:description/>
  <dc:language>en-US</dc:language>
  <cp:lastModifiedBy>Администратор</cp:lastModifiedBy>
  <dcterms:modified xsi:type="dcterms:W3CDTF">2010-02-11T08:26:18Z</dcterms:modified>
  <cp:revision>20</cp:revision>
  <dc:subject/>
  <dc:title>Числовые характеристики случайных величин</dc:title>
</cp:coreProperties>
</file>